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153-C89E-47C8-8C37-DA90E525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5C8-BDB3-4577-9276-18217370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223-3C8C-4C16-8F2F-C528FFCA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E1B-DA1C-43E9-A9FD-4CE6A2A1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D035-CBDB-494E-BAAD-B0AB9101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BF0-90B8-435D-BF34-40B6FE88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AAC-5FD1-4921-A337-9FB43450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A63-1140-43BD-8078-D2DB09BA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32B4-0896-48E6-8170-3071F638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A44-BD8C-4DB3-83FD-A7A082CD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DA3C-DE40-44A3-9B7A-8A6816D9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E24-A9EE-42FE-A9EC-965C57F7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F243-B500-4F77-96EC-2D0FCF940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9320"/>
            <a:ext cx="475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Исус - туй чудесно и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пълно е със благости!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Дава то във всяко вре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мир, любов и радост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1708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0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1532880"/>
            <a:ext cx="46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[: Славно е, славно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да се вярва в туй име!: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874440"/>
            <a:ext cx="493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Във Исусовото и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ще вървим ние все напред;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чрез Него ще победи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наште врагове навред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532880"/>
            <a:ext cx="46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[: Славно е, славно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да се вярва в туй име!: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840960"/>
            <a:ext cx="507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Колко скъпо за нас им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е това на наший Спас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от греха ни то избавя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и е силен щит за нас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532880"/>
            <a:ext cx="46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[: Славно е, славно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да се вярва в туй име!: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14040"/>
            <a:ext cx="507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4.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О, възпейте вий туй име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разгласете го навред,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докле целий свят го чуе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и ще му даде ответ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1532880"/>
            <a:ext cx="46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[: Славно е, славно 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да се вярва в туй име!: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6:56:00Z</dcterms:created>
  <dc:creator>TrifonTrifonow</dc:creator>
  <dc:description/>
  <dc:language>en-US</dc:language>
  <cp:lastModifiedBy>TrifonTrifonow</cp:lastModifiedBy>
  <dcterms:modified xsi:type="dcterms:W3CDTF">2005-11-22T06:57:13Z</dcterms:modified>
  <cp:revision>4</cp:revision>
  <dc:subject/>
  <dc:title>Slide 1</dc:title>
</cp:coreProperties>
</file>